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16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9.png" ContentType="image/png"/>
  <Override PartName="/ppt/media/image17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05F-8CF5-47DB-9BC3-534A130E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B7E-4C70-4F96-9A1B-1BBE58BD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0BB-B4AB-4B99-81B2-076C691B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039-FE02-418C-B155-CA003C74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4AE2-E6BB-4454-8F89-0B9A1678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9B2D-40CC-4815-9C4C-3C45CE46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3C25-6F18-4653-AF24-4920B1CC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D838-E9B0-408B-A3CA-2468A43B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BEC5-79BE-414C-828C-4E8165F0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DBB8-8C1E-4B6C-929E-91863A3B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0D53-5E6A-47FA-9BB4-D91449F3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CE5-3976-4F2E-9F53-4EEF8F69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AA43-F92B-4160-8A1C-27BA7B77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7FBB-0C31-4AF7-9112-7050B2B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3CF4-AB4F-418F-BEDE-997991BB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EE5A-D1BC-4546-A75F-0C4CE392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564B-C60E-4E83-B4B9-C766A387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1183-272F-40F8-B0FF-D4BCCE11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51A5-39ED-490E-8F2E-4B016484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AEEF-EF6D-496A-941A-0D7AE4C6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119D-4254-4248-B25F-B240F337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35B2-2C14-4C6A-AE02-3DEB3759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E7F-62BF-4BFA-8228-942018DA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C8BE-A99E-485C-9C21-FC9BCFE5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ECA6-28B1-4AB5-9E68-F5EC06A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7133-FC7F-4733-A95D-AC5CA185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156E-CD4B-42D8-8198-2357502A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2BDF-A62B-488A-9494-C92B7034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FB3A-0029-481F-9D99-BF6CF602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87A6-12FD-4BD4-A771-5B702E76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8BCA-0951-4122-9248-26E12156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7439-37DD-449A-A952-B8AB72D0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CEC9-D631-4A7A-B306-0388A78F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F95-CB42-47C0-A01A-4CFD01C9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EBB1-77FF-41E0-9748-AB7C78B4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5E6E-70BB-459F-B071-A440DAD5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34B5-A888-4E63-8CF3-A8A13063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A423-C6D4-4606-8D11-1F9E3346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B7FB-89F4-4F76-AACC-1E65FE3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A026-9BC1-4042-8F2C-8BC75209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B2B3-8E91-4449-9DE5-12D46C9B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4D453-6A36-4DE5-A644-903B4432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CC96-B3B1-4E76-BE5B-AB0009E4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C2B6A-2085-4241-A579-719B7942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9C4-9934-441B-A9B0-CA80A6A3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E98D-EACD-45DC-A3F7-18FD15B2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1E045-C132-41A1-A739-C93D82E3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2DED-8C20-4CC0-9263-291603B2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7E4D-0942-49B7-B5CF-7BEC45F5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BF77E-E3D1-4B87-BB78-AD8EF1B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DF30-4619-4CC6-B8C8-DC19F24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BDB13-16A9-4E3E-BA97-50100AA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28DD9-DFBF-4A00-81BF-1B2EC18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19279-E8D3-4F8C-8C32-897AE8DD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989D5-F884-4380-AE3C-95394A4B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055-0501-4926-B188-E73644AF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969FF-C87E-4B63-B535-0118BDC0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BEDC2-7BDF-46A4-A401-F26E94AD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2FF61-A548-4C71-AD81-870A538D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90D2-CF9D-4025-A0AE-990E20BE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EF3F1-4D82-458E-9FA5-85E2AB2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475EE-C7CA-49F1-BB3C-E2AB1C76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8A72-4C11-41A9-88D4-0A04ABC0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E4D9-4F5B-4A5E-AE74-725FD275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62A1E-C2B9-4873-AA82-A7E1FA0E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ED642-8170-443B-85D4-079F1FDD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A30-65C1-4917-AFE2-77CE2265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77313-1D0D-46DC-BBF7-8E04BE4D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EC101-12D9-4EFC-95D3-ABE0A572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8754F-3E26-4AEA-95F5-46651CE3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F8B58-21C4-484A-8FD0-7692E587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51382-68C3-4656-897A-A5E85A58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D3B5E-22D0-480C-8463-E92C76CF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67EA-B071-46D2-BD2E-17B6E3A1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3CFA-CAFE-46E8-B4A2-8CFBB39C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F30F-E66B-4D75-9325-DA28F4B7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0047B-BD25-44CB-A26E-F74CBEFE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D1E-2C92-42B1-B766-19EDB1D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E6793-1D63-4BF0-9286-50FD3A11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81A2C-EBF5-4EC1-81ED-0F737B36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ACB30-DFD5-45B0-AED3-A2E658D7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E040D-23F9-4890-A130-6B8303D4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C8D53-75B1-4FFE-948B-B261E171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BD91E-6CDE-4482-AC5F-1DB51788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0CC2-5C94-4E95-A9BA-64B461D5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B07B-C0DB-42D5-8AA1-093D7875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3C4B9-7C34-4F4A-B093-8B2F93AE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B753E-1BA7-4326-A2E6-1E56650D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0B0-ACE7-4FCD-B53E-119B92B8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5DC1B-7687-4B73-8FFE-806E37EB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D6547-119B-47D2-BE5C-13173BF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1455C-5B73-4110-8488-89AA281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B7BBE-3DE9-4E47-88F5-368963C3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3477F-6BFD-4BC0-9757-18D749CC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5DFC8-3344-4D1D-8C62-51969A6A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3BB63-D83E-45A4-A7F6-EFCFD01A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BAE2-6EE2-4BFA-8174-CCD7EA3FEE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F6C5-F8C7-496B-974B-92C84C61D8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C75C-435F-4EC9-9651-970B185940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65DF-0DFB-494A-A806-E3C8BA904B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7B1F-95B6-4FC0-AB6F-69B899D4E9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C948-6BA4-4C91-B2C5-6677A96750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947D-5702-4064-B9E6-9A12C1D4C2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2C4D-C14A-4ADE-B172-A6E8334F43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26960" y="682560"/>
            <a:ext cx="8435880" cy="2225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46"/>
                </a:solidFill>
                <a:latin typeface="Lucida Sans Unicode"/>
              </a:rPr>
              <a:t>Участники проекта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Герасимов 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Герасимова 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Денисова 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Кулик 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Шарыгина 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267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914400" y="1481040"/>
            <a:ext cx="71629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А) Построение чертежа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Б) Построение плана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6632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243792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Построение окружности с помощью циркул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Построение композиции из различных линий и фигур с помощью циркул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3152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22824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Габова М.А. Технология развития пространственного мышления и графических умений у детей 6-7 лет,М.,2008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2.Квач Н.В Развитие образного мышления, и графических навыков у детей 5-7 лет, М.,2001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3.Брофман В. Архитектурная школа имени папы Карло. Книга для для детей и взрослых. М., Линка Пресс 2001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4.Павлова Т.Л. Диагностика готовности ребенка к школе.М., 2006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5.Крушельницкая А.Н. Вправо , влево, вверх, вниз – развитие пространственного восприятия у детей 6-7 лет. М.,2004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                      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D:\Всё для презентаций\Для презентаций\Насекомые\Ползающие\CRAWL017.jpg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1" name="TextBox 18" descr=""/>
          <p:cNvPicPr/>
          <p:nvPr/>
        </p:nvPicPr>
        <p:blipFill>
          <a:blip r:embed="rId2"/>
          <a:stretch/>
        </p:blipFill>
        <p:spPr>
          <a:xfrm>
            <a:off x="146160" y="66600"/>
            <a:ext cx="5364000" cy="1384200"/>
          </a:xfrm>
          <a:prstGeom prst="rect">
            <a:avLst/>
          </a:prstGeom>
          <a:ln w="0">
            <a:noFill/>
          </a:ln>
        </p:spPr>
      </p:pic>
      <p:pic>
        <p:nvPicPr>
          <p:cNvPr id="402" name="TextBox 19" descr=""/>
          <p:cNvPicPr/>
          <p:nvPr/>
        </p:nvPicPr>
        <p:blipFill>
          <a:blip r:embed="rId3"/>
          <a:stretch/>
        </p:blipFill>
        <p:spPr>
          <a:xfrm>
            <a:off x="1785960" y="2786040"/>
            <a:ext cx="2639880" cy="1432080"/>
          </a:xfrm>
          <a:prstGeom prst="rect">
            <a:avLst/>
          </a:prstGeom>
          <a:ln w="0">
            <a:noFill/>
          </a:ln>
        </p:spPr>
      </p:pic>
      <p:pic>
        <p:nvPicPr>
          <p:cNvPr id="403" name="TextBox 20" descr=""/>
          <p:cNvPicPr/>
          <p:nvPr/>
        </p:nvPicPr>
        <p:blipFill>
          <a:blip r:embed="rId4"/>
          <a:stretch/>
        </p:blipFill>
        <p:spPr>
          <a:xfrm>
            <a:off x="3614760" y="4998960"/>
            <a:ext cx="5846760" cy="1432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Кодирование информаци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процесс формирования определённого представления информации. В более узком смысле переход от одной формы представления информации к другой, более удобной для хранения, передачи или обработки.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D:\мои документы\маша\математика\Дидактические материалы на урок ИКТ\письмо.gif"/>
          <p:cNvPicPr/>
          <p:nvPr/>
        </p:nvPicPr>
        <p:blipFill>
          <a:blip r:embed="rId2"/>
          <a:stretch/>
        </p:blipFill>
        <p:spPr>
          <a:xfrm>
            <a:off x="3200400" y="45720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Как помочь ребёнку освоить способы кодирования графической информации?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мои документы\маша\математика\Дидактические материалы на урок ИКТ\мальчик.gif"/>
          <p:cNvPicPr/>
          <p:nvPr/>
        </p:nvPicPr>
        <p:blipFill>
          <a:blip r:embed="rId2"/>
          <a:stretch/>
        </p:blipFill>
        <p:spPr>
          <a:xfrm>
            <a:off x="5867280" y="3809880"/>
            <a:ext cx="2909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ь литературу по проблем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анализировать вариативные комплексные программы по проблем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работать диагностические задания, составить диагностику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ставить буклет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ставить отчётную презентацию по проделанной нами работ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*Осуществление основных графических операц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*Построение графических изображений по образцу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*Создание изображения конструкции мод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*Осуществление основных графических операций и геометрических изображений с помощью циркул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D:\мои документы\маша\математика\Дидактические материалы на урок ИКТ\ученик.gif"/>
          <p:cNvPicPr/>
          <p:nvPr/>
        </p:nvPicPr>
        <p:blipFill>
          <a:blip r:embed="rId2"/>
          <a:stretch/>
        </p:blipFill>
        <p:spPr>
          <a:xfrm>
            <a:off x="304920" y="3049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ение от рук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Соединение точек, лин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Штриховка в заданном направлен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) Построение дорожек в разных конфигурациях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) Построение композиций из линий различных типов и разных фигур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остроение с использованием чертёжно – графических инструментов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Соединение точек с помощью линей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Построение линий с помощью линей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) Построение окружности с помощью циркул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-126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286000"/>
            <a:ext cx="822960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С использованием полного образц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Копирован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Обведение по лин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С использованием частичного образц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Построение по точка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Построение по штриховой лин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8:19:27Z</dcterms:created>
  <dc:creator>алена</dc:creator>
  <dc:description/>
  <dc:language>en-US</dc:language>
  <cp:lastModifiedBy>алена</cp:lastModifiedBy>
  <dcterms:modified xsi:type="dcterms:W3CDTF">2011-01-09T22:13:39Z</dcterms:modified>
  <cp:revision>17</cp:revision>
  <dc:subject/>
  <dc:title>Кодирование графической информации</dc:title>
</cp:coreProperties>
</file>